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wmf" ContentType="image/x-wmf"/>
  <Override PartName="/ppt/media/image23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48;&#1079;&#1086;&#1073;&#1088;&#1072;&#1078;&#1077;&#1085;&#1080;&#1077;:Bezier_curve.sv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Bezier_quadratic.pn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54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2588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оставляющие мультимедиа-приложен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97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1197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графика и аним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0061-AB1E-4113-8EE4-C6074B0DF8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35640" y="1449360"/>
            <a:ext cx="0" cy="5111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38624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7168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005" descr=""/>
          <p:cNvPicPr/>
          <p:nvPr/>
        </p:nvPicPr>
        <p:blipFill>
          <a:blip r:embed="rId1"/>
          <a:stretch/>
        </p:blipFill>
        <p:spPr>
          <a:xfrm>
            <a:off x="971640" y="1424160"/>
            <a:ext cx="2952720" cy="2041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751280" y="4290480"/>
            <a:ext cx="32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  деформации сферы при деформации решет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007" descr=""/>
          <p:cNvPicPr/>
          <p:nvPr/>
        </p:nvPicPr>
        <p:blipFill>
          <a:blip r:embed="rId2"/>
          <a:stretch/>
        </p:blipFill>
        <p:spPr>
          <a:xfrm>
            <a:off x="971640" y="4299120"/>
            <a:ext cx="2952720" cy="2046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43280" y="1590120"/>
            <a:ext cx="354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ейнер объемной деформации вокруг деформируемого объ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6AC1-E665-46C0-A327-1397B427A2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спользования деформатора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спользования деформатора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age009" descr=""/>
          <p:cNvPicPr/>
          <p:nvPr/>
        </p:nvPicPr>
        <p:blipFill>
          <a:blip r:embed="rId1"/>
          <a:stretch/>
        </p:blipFill>
        <p:spPr>
          <a:xfrm>
            <a:off x="576360" y="512640"/>
            <a:ext cx="3744720" cy="2594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011" descr=""/>
          <p:cNvPicPr/>
          <p:nvPr/>
        </p:nvPicPr>
        <p:blipFill>
          <a:blip r:embed="rId2"/>
          <a:stretch/>
        </p:blipFill>
        <p:spPr>
          <a:xfrm>
            <a:off x="576360" y="3546360"/>
            <a:ext cx="37796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Компьютерное видео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D084-7BFA-460A-B118-31799F835F6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58920" y="1665360"/>
            <a:ext cx="6485040" cy="4865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35280" y="1233360"/>
            <a:ext cx="56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Общий вид окна программы </a:t>
            </a:r>
            <a:r>
              <a:rPr b="1" lang="en-US" sz="1800" spc="-1" strike="noStrike">
                <a:solidFill>
                  <a:srgbClr val="0f2bec"/>
                </a:solidFill>
                <a:latin typeface="Arial"/>
              </a:rPr>
              <a:t>Ulead Video Stud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B927-2E7E-454B-B0D5-B86C710D74D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944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63960" y="1142640"/>
            <a:ext cx="51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Библиотека заготовок, слои и компози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в программе </a:t>
            </a:r>
            <a:r>
              <a:rPr b="1" lang="en-US" sz="1800" spc="-1" strike="noStrike">
                <a:solidFill>
                  <a:srgbClr val="0f2bec"/>
                </a:solidFill>
                <a:latin typeface="Arial"/>
              </a:rPr>
              <a:t>Adobe After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32000" y="1952640"/>
            <a:ext cx="6048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0920" y="1197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A160-02D1-465D-B9FF-8AA354349D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19572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836640"/>
            <a:ext cx="40323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1484280"/>
            <a:ext cx="4032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создании такой презентации использовались анимационные заготовки 3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итров в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ol 3d Studio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видеофрагменты и субтитры из фильма «СФЕРА», анимации созданные во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ash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слайды созданные в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wer Point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звуковой клип расслабляющей му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Характеристики временной базы, компрессии и др. представлены на изображении сле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449360"/>
            <a:ext cx="4032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ResKontSnd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6000" y="-2160"/>
            <a:ext cx="83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Мультимедийные компоненты видеопрезентации курса английского ЕМЕ смонтированной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2744640"/>
            <a:ext cx="3564000" cy="31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Компьютерное ауди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9BA3-98F3-4F9C-815C-5DB020FB82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3440" y="1341360"/>
            <a:ext cx="0" cy="5112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080" y="37544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00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l2-1" descr=""/>
          <p:cNvPicPr/>
          <p:nvPr/>
        </p:nvPicPr>
        <p:blipFill>
          <a:blip r:embed="rId1"/>
          <a:stretch/>
        </p:blipFill>
        <p:spPr>
          <a:xfrm>
            <a:off x="611280" y="1521000"/>
            <a:ext cx="3619440" cy="2019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76560" y="54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gl2-2" descr=""/>
          <p:cNvPicPr/>
          <p:nvPr/>
        </p:nvPicPr>
        <p:blipFill>
          <a:blip r:embed="rId2"/>
          <a:stretch/>
        </p:blipFill>
        <p:spPr>
          <a:xfrm>
            <a:off x="611280" y="4400640"/>
            <a:ext cx="3848040" cy="1647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4720" y="1447920"/>
            <a:ext cx="396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идальный звук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гн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4004280"/>
            <a:ext cx="39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ный звуковой сигн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137A-1232-48CF-B778-12F0203C0D7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ретизация сигнала 440 Гц с частотой 1000 Г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ретизация сигнала 440 Гц с частотой 5000 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3980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l2-10" descr=""/>
          <p:cNvPicPr/>
          <p:nvPr/>
        </p:nvPicPr>
        <p:blipFill>
          <a:blip r:embed="rId1"/>
          <a:stretch/>
        </p:blipFill>
        <p:spPr>
          <a:xfrm>
            <a:off x="287280" y="1387440"/>
            <a:ext cx="4105440" cy="889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35116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gl2-11" descr=""/>
          <p:cNvPicPr/>
          <p:nvPr/>
        </p:nvPicPr>
        <p:blipFill>
          <a:blip r:embed="rId2"/>
          <a:stretch/>
        </p:blipFill>
        <p:spPr>
          <a:xfrm>
            <a:off x="468360" y="3753000"/>
            <a:ext cx="38163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FD3D-B77E-4533-A1B3-2D13ED92BAD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армонически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гармонически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gl2-20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492360" cy="2682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gl2-21" descr=""/>
          <p:cNvPicPr/>
          <p:nvPr/>
        </p:nvPicPr>
        <p:blipFill>
          <a:blip r:embed="rId2"/>
          <a:stretch/>
        </p:blipFill>
        <p:spPr>
          <a:xfrm>
            <a:off x="539640" y="3537000"/>
            <a:ext cx="34210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D6CB-7E37-430E-9091-E3E1CB4309B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87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l8-1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092720" cy="5462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256040" y="295920"/>
            <a:ext cx="65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ий вид окна программы Sound Fo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C558-6595-418D-A227-CDC7335383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екторная и растровая 2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6CDE-0FAC-41C9-ACAA-7C01D36F96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908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345cb15e836677e949b72ace996ac052" descr="\mathbf{B}(t) = (1-t)^3\mathbf{P}_0 + 3t(1-t)^2\mathbf{P}_1 + 3t^2(1-t)\mathbf{P}_2 + t^3\mathbf{P}_3, \quad t \in [0,1]"/>
          <p:cNvPicPr/>
          <p:nvPr/>
        </p:nvPicPr>
        <p:blipFill>
          <a:blip r:embed="rId1"/>
          <a:stretch/>
        </p:blipFill>
        <p:spPr>
          <a:xfrm>
            <a:off x="647640" y="2457360"/>
            <a:ext cx="7956720" cy="347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54560" y="43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00px-Bezier_curve.svg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346536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0688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05360" y="42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4560" y="1482840"/>
            <a:ext cx="86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параметрической форме кубическая кривая Безье (n =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писывается следующим уравнен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465360"/>
            <a:ext cx="0" cy="28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2360" y="3105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1080" y="36439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бическая кривая Безь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2571-2EE3-4850-9B84-E013AC78EB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квадратичной кривой Без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386064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кривой Безье 4-й степ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Bezier_quadratic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657360"/>
            <a:ext cx="3564000" cy="225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Bezier_forth" descr=""/>
          <p:cNvPicPr/>
          <p:nvPr/>
        </p:nvPicPr>
        <p:blipFill>
          <a:blip r:embed="rId3"/>
          <a:stretch/>
        </p:blipFill>
        <p:spPr>
          <a:xfrm>
            <a:off x="250920" y="3968640"/>
            <a:ext cx="4140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814D-279B-4ECE-9DC5-80A8526E46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2908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4560" y="43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0688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05360" y="42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620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30320" y="259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640" y="9108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Примерный результат сильной компресси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6404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arrot_1" descr=""/>
          <p:cNvPicPr/>
          <p:nvPr/>
        </p:nvPicPr>
        <p:blipFill>
          <a:blip r:embed="rId1"/>
          <a:stretch/>
        </p:blipFill>
        <p:spPr>
          <a:xfrm>
            <a:off x="647640" y="803160"/>
            <a:ext cx="1714680" cy="3057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5912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snag-0050" descr=""/>
          <p:cNvPicPr/>
          <p:nvPr/>
        </p:nvPicPr>
        <p:blipFill>
          <a:blip r:embed="rId2"/>
          <a:stretch/>
        </p:blipFill>
        <p:spPr>
          <a:xfrm>
            <a:off x="3236760" y="1913040"/>
            <a:ext cx="1047960" cy="1047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1332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snag-0052" descr=""/>
          <p:cNvPicPr/>
          <p:nvPr/>
        </p:nvPicPr>
        <p:blipFill>
          <a:blip r:embed="rId3"/>
          <a:stretch/>
        </p:blipFill>
        <p:spPr>
          <a:xfrm>
            <a:off x="5091120" y="196848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000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002360" y="800280"/>
            <a:ext cx="1710000" cy="3060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51672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4000" y="393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ерем на 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ону 8Х8 пикс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8520" y="39333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жем е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лич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96000" y="353700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ираем сред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исполь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ый ц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360" y="3897000"/>
            <a:ext cx="22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приме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си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ресси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2640" y="5140800"/>
            <a:ext cx="776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перь весь квадрат 8Х8 пикселей будет окрашен в этот(од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вет, что значительно уменьшит размеры файла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рессии.  И так, компрессия произойде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ого квадрата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084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анимация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91D0-5420-4E8E-899A-144289D9E3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4720" y="1700280"/>
            <a:ext cx="0" cy="4825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11434" descr=""/>
          <p:cNvPicPr/>
          <p:nvPr/>
        </p:nvPicPr>
        <p:blipFill>
          <a:blip r:embed="rId1"/>
          <a:stretch/>
        </p:blipFill>
        <p:spPr>
          <a:xfrm>
            <a:off x="754200" y="1536840"/>
            <a:ext cx="3313080" cy="2360520"/>
          </a:xfrm>
          <a:prstGeom prst="rect">
            <a:avLst/>
          </a:prstGeom>
          <a:ln w="0">
            <a:noFill/>
          </a:ln>
        </p:spPr>
      </p:pic>
      <p:pic>
        <p:nvPicPr>
          <p:cNvPr id="101" name="27246" descr=""/>
          <p:cNvPicPr/>
          <p:nvPr/>
        </p:nvPicPr>
        <p:blipFill>
          <a:blip r:embed="rId2"/>
          <a:stretch/>
        </p:blipFill>
        <p:spPr>
          <a:xfrm>
            <a:off x="826920" y="3890880"/>
            <a:ext cx="3203640" cy="2562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00720" y="1479960"/>
            <a:ext cx="43192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в 1906 году Стюардом Блактоном был создан короткий фильм «Забавные выражения веселых лиц» (Humorous Phases of Funny Faces). Автор выполнял на доске рисунок, фотографировал, стирал, а затем вновь рисовал, фотографировал и стир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4E21-9287-4B82-9E1B-1F3232000B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38640" y="391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.1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6985080" cy="5626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000" y="18900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кно программы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052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B4CE-2263-4B57-8CD4-6F7F37710A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0044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2.1" descr=""/>
          <p:cNvPicPr/>
          <p:nvPr/>
        </p:nvPicPr>
        <p:blipFill>
          <a:blip r:embed="rId1"/>
          <a:stretch/>
        </p:blipFill>
        <p:spPr>
          <a:xfrm>
            <a:off x="324000" y="2141640"/>
            <a:ext cx="8496000" cy="312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22520" y="33336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Временная диа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052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BE92-C603-4FB3-9418-8BFE0B9CC8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468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2.3" descr=""/>
          <p:cNvPicPr/>
          <p:nvPr/>
        </p:nvPicPr>
        <p:blipFill>
          <a:blip r:embed="rId1"/>
          <a:stretch/>
        </p:blipFill>
        <p:spPr>
          <a:xfrm>
            <a:off x="142920" y="1874880"/>
            <a:ext cx="8820000" cy="3282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20360" y="33336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Покадровая ани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7280" y="87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DCF8-4866-48B1-B140-ADEB253F164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319572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836640"/>
            <a:ext cx="40323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5640" y="1089000"/>
            <a:ext cx="4032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нимация труд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Анимация иллюстрирующая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Анимация иллюстрирующая американскую идиому </a:t>
            </a:r>
            <a:r>
              <a:rPr b="1" lang="en-US" sz="1800" spc="-1" strike="noStrike">
                <a:solidFill>
                  <a:srgbClr val="1120aa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на ниточке</a:t>
            </a:r>
            <a:r>
              <a:rPr b="1" lang="en-US" sz="1800" spc="-1" strike="noStrike">
                <a:solidFill>
                  <a:srgbClr val="1120aa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233360"/>
            <a:ext cx="4032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Hard sound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PronSpor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AnimeonLine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-180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Анимации разработанные в программе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Flash 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для  пособия по английскому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21T03:41:03Z</dcterms:modified>
  <cp:revision>99</cp:revision>
  <dc:subject/>
  <dc:title>Lecture Template </dc:title>
</cp:coreProperties>
</file>